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31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10.wmf" ContentType="image/x-wmf"/>
  <Override PartName="/ppt/media/image2.png" ContentType="image/png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.png" ContentType="image/png"/>
  <Override PartName="/ppt/media/image11.wmf" ContentType="image/x-wmf"/>
  <Override PartName="/ppt/media/image30.wmf" ContentType="image/x-wmf"/>
  <Override PartName="/ppt/media/image28.wmf" ContentType="image/x-wmf"/>
  <Override PartName="/ppt/media/image36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1.png" ContentType="image/png"/>
  <Override PartName="/ppt/media/image22.wmf" ContentType="image/x-wmf"/>
  <Override PartName="/ppt/media/image19.png" ContentType="image/png"/>
  <Override PartName="/ppt/media/image18.wmf" ContentType="image/x-wmf"/>
  <Override PartName="/ppt/media/image2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8EDE-D917-46DD-9B95-6EFED598D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statist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eople show that h, r are not indepedendent but conditionally independent given that A = {r &lt; 3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random variable is a random variable like any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ed with some experiment – flipping a coin – which gave us our sample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fined 2 random variables on that sample space: h and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of these 2 random variables, its values represented events which, taken together, represented an event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hen we define a new random variable using the other 2, this new random variable behaves exactly the same way as each of the original 2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go back to the event space and define the values of the new random variable for each point in the sample space. From that we also have the PM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y PMF probability mass function – if you think of probability as a physical weight – and the x axis as the position, then computing E[x] is like computing where the center of mass will be on the x 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MF gives us the mass. PDF gives us the density. Density is mass per unit volume, mass/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MF provides the same type of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last time (do each concept as a class/ objec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points in a sampl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ly exclusive, collectively exhaustive, finest g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s on that sampl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 space is a group of events that mutually exclusive and collectively exhaus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each sample point and add those together to get the probability of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 Probability:P(A|B) = P(AB)/P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 sampl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ce: P(A|B) = P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LO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picture looked like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d sample points in a sample space (draw the sample points and sample sp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ample point is a member of  a list of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 is a list of 0 or more sample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8 sample poi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s are collections of sample points. We can group sample points together into events based on each sample points’ value of a particular random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group them into 4 events based on the random variable h = 0,1,2,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group them into 3 events based on the random variable r = 1,2,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group them into 6 events based on the intersection of the random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alue of our random variable represents an event in the event space for that random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at h0 is a particular value of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efine the PMF from the sample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is is an event space, its not finest gr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lets say we wanted to know whether the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ss resulted in heads. We wouldn’t be able to use this to answer that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at it’s a 3d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how you go from compound to marginal pmf. Show that you can’t go visa-ver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CC08-8B83-4CBE-B4D6-915283C3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1E0C-5753-4032-9CDB-78819B99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22FD-DB59-4072-A884-FE02601C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A890-4EB0-442B-8DB8-290472D0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14C3-83AC-4FE7-BC3F-8FF3C450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8609-407C-4824-B384-6419BDAB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65F2-9A21-4454-B5BC-71A809DA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0A98-B330-4E9A-AA6A-FDD8B59C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5120-F0F9-4492-84CC-09CCC37F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737-2A5F-4E28-908A-4BC80741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C4A1-769D-4D03-B43B-04DD8A5C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8126-5D23-4283-8A25-AC8D21C3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B157-24B5-4AFA-81BF-BC18FC257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7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8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hy prob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3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c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9280" y="205740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19051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22543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y are independent if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x0, y0:  P(x0y0) = P(x0)*P(y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95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x0|y0) = P(x0y0) / P(y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ditional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657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ditional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1148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y are conditionally independent iff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x0, y0:  P(x0y0 | A) = P(x0|A)*P(y0|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53352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unctions defined on random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unction on random variable(s) creates a new random vari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3962520" cy="3044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335120" y="480060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= f(h, r) =  h*r = {0, 1, 2, 4, 9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124080" y="2895480"/>
            <a:ext cx="5639040" cy="573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194000" y="2209680"/>
            <a:ext cx="50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 = f(h) = 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{0, 1, 4, 9}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3520" y="533520"/>
            <a:ext cx="822960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pe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ed average of all possible outc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[x]  = ∑ [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[g(x)]  = ∑ [ g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[w] = E[g(x,y)] = ∑ [ ∑ [ g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]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624120"/>
            <a:ext cx="822960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the spread of the PMF around the expected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∑ [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[x]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] = E[ (x – E[x]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tinuous Sample Spaces, Event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840" y="2514600"/>
            <a:ext cx="336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, Weigh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640" y="1295280"/>
            <a:ext cx="83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with infinitely many possible outc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4876920"/>
            <a:ext cx="64008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67040" y="40752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5904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92720" y="40752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6852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2200" y="4038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718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556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8136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1504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9120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488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0716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084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838080" y="1066680"/>
            <a:ext cx="7086600" cy="1684080"/>
            <a:chOff x="838080" y="1066680"/>
            <a:chExt cx="7086600" cy="168408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838080" y="1066680"/>
              <a:ext cx="6782040" cy="16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800600" y="1226880"/>
              <a:ext cx="3124080" cy="14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33520" y="533520"/>
            <a:ext cx="82296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umulative Density Function (C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uch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352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umulative Density Function (C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4760" y="3863880"/>
            <a:ext cx="19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0880" y="4425840"/>
            <a:ext cx="8153640" cy="212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304920" y="1143000"/>
          <a:ext cx="4038480" cy="269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403848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4724280" y="1143000"/>
            <a:ext cx="4029120" cy="2693880"/>
            <a:chOff x="4724280" y="1143000"/>
            <a:chExt cx="4029120" cy="2693880"/>
          </a:xfrm>
        </p:grpSpPr>
        <p:graphicFrame>
          <p:nvGraphicFramePr>
            <p:cNvPr id="169" name=""/>
            <p:cNvGraphicFramePr/>
            <p:nvPr/>
          </p:nvGraphicFramePr>
          <p:xfrm>
            <a:off x="4724280" y="1143000"/>
            <a:ext cx="4029120" cy="269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24280" y="1143000"/>
                      <a:ext cx="4029120" cy="269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 flipV="1">
              <a:off x="5553000" y="1371600"/>
              <a:ext cx="259056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533520"/>
            <a:ext cx="822960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bability Density Function (P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f(x) such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38080" y="1839960"/>
            <a:ext cx="5257800" cy="850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76240" y="2971800"/>
            <a:ext cx="6591240" cy="1730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33520" y="5562720"/>
            <a:ext cx="2666880" cy="984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5638680" y="5602320"/>
            <a:ext cx="1752840" cy="798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rot="5400000">
            <a:off x="3657600" y="1752120"/>
            <a:ext cx="533520" cy="6477120"/>
          </a:xfrm>
          <a:custGeom>
            <a:avLst/>
            <a:gdLst>
              <a:gd name="textAreaLeft" fmla="*/ 0 w 533520"/>
              <a:gd name="textAreaRight" fmla="*/ 192600 w 533520"/>
              <a:gd name="textAreaTop" fmla="*/ 168840 h 6477120"/>
              <a:gd name="textAreaBottom" fmla="*/ 6308280 h 647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ven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559400" cy="1654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6132240" cy="16142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3520" y="471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it-Impuls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0360" y="140796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derivative of f(x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64880" y="5708520"/>
            <a:ext cx="24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∫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’(x) dx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67200" y="5599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616600">
            <a:off x="1638360" y="232380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5616600">
            <a:off x="3695760" y="369540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76760" y="23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5560" y="43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828800" y="2286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MF &amp; C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819520" y="865080"/>
            <a:ext cx="1752480" cy="582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2057400" cy="5176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410080" y="6078600"/>
            <a:ext cx="1905120" cy="703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543800" y="6219720"/>
            <a:ext cx="1066680" cy="48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"/>
          <p:cNvGraphicFramePr/>
          <p:nvPr/>
        </p:nvGraphicFramePr>
        <p:xfrm>
          <a:off x="762120" y="1295280"/>
          <a:ext cx="3657600" cy="244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1295280"/>
                    <a:ext cx="365760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029200" y="990720"/>
          <a:ext cx="3733920" cy="26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990720"/>
                    <a:ext cx="37339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5867280" y="1206360"/>
            <a:ext cx="2826000" cy="1917720"/>
          </a:xfrm>
          <a:custGeom>
            <a:avLst/>
            <a:gdLst/>
            <a:ahLst/>
            <a:rect l="l" t="t" r="r" b="b"/>
            <a:pathLst>
              <a:path w="1780" h="1208">
                <a:moveTo>
                  <a:pt x="0" y="1208"/>
                </a:moveTo>
                <a:lnTo>
                  <a:pt x="176" y="848"/>
                </a:lnTo>
                <a:lnTo>
                  <a:pt x="376" y="552"/>
                </a:lnTo>
                <a:lnTo>
                  <a:pt x="696" y="320"/>
                </a:lnTo>
                <a:lnTo>
                  <a:pt x="968" y="184"/>
                </a:lnTo>
                <a:lnTo>
                  <a:pt x="1248" y="88"/>
                </a:lnTo>
                <a:lnTo>
                  <a:pt x="178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4724280" y="685800"/>
            <a:ext cx="4159440" cy="5270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477120" y="2286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181480" y="3809880"/>
          <a:ext cx="3733920" cy="2667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81480" y="3809880"/>
                    <a:ext cx="37339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5943600" y="5029200"/>
            <a:ext cx="2895480" cy="9144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09480" y="3962520"/>
          <a:ext cx="4038840" cy="2695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9480" y="3962520"/>
                    <a:ext cx="4038840" cy="26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2286000" y="37479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3352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pound Probability Density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65200" y="1066680"/>
            <a:ext cx="8013600" cy="3116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073160" y="4302000"/>
            <a:ext cx="699768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0560" y="2286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 = {&lt; 3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685800"/>
            <a:ext cx="3124440" cy="137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46360" y="16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896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1600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6408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7336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1600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0600" y="16905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8320" y="685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38520" y="1676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92720" y="685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59400" y="16905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3080" y="685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685800"/>
            <a:ext cx="685800" cy="1295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1371600"/>
            <a:ext cx="2590920" cy="6094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80560" y="214776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 = {odd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96520" y="304920"/>
            <a:ext cx="339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 Sampl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&lt;SamplePoints&gt; allSamplePoint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98200" y="2666880"/>
            <a:ext cx="319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 ModelOfExper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plePoint doExperime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pleSpace getSampleSpa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can generate this using tree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coordinat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94720" y="1447920"/>
            <a:ext cx="3280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 Sample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ing descrip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List&lt;Event&gt; eventsIAmAMemberO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loat probabilit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11920" y="3048120"/>
            <a:ext cx="4257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lass 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String descrip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List&lt;SamplePoint&gt; samplePointsIConta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loat computeProbability();//sum over sample 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21640" y="5505480"/>
            <a:ext cx="3271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Event complement(Event 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Event intersection(Event A, Event 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Event union(Event A, Event 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2362320"/>
            <a:ext cx="1600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3962520"/>
            <a:ext cx="3809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6920" y="4394160"/>
            <a:ext cx="4557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onditional Prob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(A | B)  = P(AB)/P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Event condProb(Event A, Event 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ndepen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(A | B) = P(A),  or P(AB) = P(A)P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boolean areIndependent(Event A, Event 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onditional In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(AB | C) = P(A|C)P(B|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boolean areCondInd(Event A, Event B, Event 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ayes Theorem,  Combinations, Permu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4680000"/>
            <a:ext cx="297180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1360" y="5334120"/>
            <a:ext cx="37083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5943600"/>
            <a:ext cx="4267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2133720"/>
            <a:ext cx="3124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29200" y="438768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lass Event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List&lt;Event&gt; specialSetOfEvent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838080"/>
            <a:ext cx="2590920" cy="6098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05680" y="2286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 = {even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ditional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047600" y="1066680"/>
            <a:ext cx="7048800" cy="1043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104840" y="2057400"/>
            <a:ext cx="7658280" cy="598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793800" y="2590920"/>
            <a:ext cx="7556400" cy="1081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09480" y="3505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ditional 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1860480" y="5029200"/>
            <a:ext cx="5423040" cy="1565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609480" y="4075200"/>
            <a:ext cx="81154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3352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374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pe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92280" y="4390920"/>
            <a:ext cx="7759440" cy="1552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820800" y="1143000"/>
            <a:ext cx="750096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ndom Variables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53352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andom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attribute of an experimental outco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 Random Vari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 Random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533520"/>
            <a:ext cx="8229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: Flip a coin 3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3209760" cy="3657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53000" y="2438280"/>
            <a:ext cx="461880" cy="3733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384880" y="2514600"/>
            <a:ext cx="635040" cy="3581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400800" y="27417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= total # of 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length of longest r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g. 2 tails in a r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lationship btw. random variables and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1800" y="2876400"/>
            <a:ext cx="8420400" cy="398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50280" y="34956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9160" y="349560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4120" y="4302000"/>
            <a:ext cx="6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3080" y="4302000"/>
            <a:ext cx="6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5840" y="52484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40080" y="52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8880" y="1878120"/>
            <a:ext cx="8197920" cy="941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302840" y="175248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5520" y="1766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06440" y="1295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06440" y="1523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78720" y="1766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10400" y="1295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10400" y="1538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87280" y="1766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457440"/>
            <a:ext cx="82296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bability Mass Function (PM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iscrete random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MF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probability that the experimental outcome will have h =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36600" y="1905120"/>
            <a:ext cx="8197920" cy="941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88120" y="1523880"/>
            <a:ext cx="123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) = 1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16920" y="1523880"/>
            <a:ext cx="123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= 3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45720" y="1538280"/>
            <a:ext cx="123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= 3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69960" y="1538280"/>
            <a:ext cx="123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= 1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6094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724280" y="5715000"/>
            <a:ext cx="2362320" cy="784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600200" y="5715000"/>
            <a:ext cx="266688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53352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of P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5800" y="2438280"/>
          <a:ext cx="518004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38280"/>
                    <a:ext cx="518004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019920" y="2263680"/>
            <a:ext cx="2361960" cy="784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867280" y="1447920"/>
            <a:ext cx="266724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1522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pound Probability Mass Function (PM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24280" y="3476520"/>
            <a:ext cx="3391200" cy="954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3962520" cy="3044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876920" y="4583160"/>
            <a:ext cx="3593880" cy="903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915080" y="5472000"/>
            <a:ext cx="3543120" cy="928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380880" y="685800"/>
            <a:ext cx="7925040" cy="1230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3520" y="2008080"/>
            <a:ext cx="822960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8:35:41Z</dcterms:created>
  <dc:creator>Ben</dc:creator>
  <dc:description/>
  <dc:language>en-US</dc:language>
  <cp:lastModifiedBy>Ben</cp:lastModifiedBy>
  <dcterms:modified xsi:type="dcterms:W3CDTF">2010-11-17T03:31:32Z</dcterms:modified>
  <cp:revision>811</cp:revision>
  <dc:subject/>
  <dc:title>Slide 1</dc:title>
</cp:coreProperties>
</file>